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3C4-BE77-4C7E-92DB-8EFA2D569E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E16-3A76-44F9-BB9B-FECC4217B6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Used carbon printing calculator from www.hp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BD0E-0742-4C55-A07A-4C83FDBCF4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44E-5703-40CD-BCCC-8A2ECD5F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47C-C7D8-4904-9204-C321079D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BD4-5174-4D61-BA43-6629FC19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F0F-4123-4EC4-85A5-D36EF934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3592-44AD-4033-A004-ACAA941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08B6-5BA1-4A9C-A6D5-166E2BE1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A083-0164-4AAF-9A1C-49066EF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D5ED-E2F4-44A4-B125-AAF14728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DE31-1C63-4CD4-B221-B5E322C8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B049-BBA5-4D7F-B0F2-10B70E0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499B-1D1A-4F42-A542-D637957E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68F-DC70-407D-ABFC-8AFE4E3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5CE3-B6A9-4452-A16B-5C30A82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C9EC-D1CE-4A62-8FE2-05E265A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418D-92C4-4E89-9C24-9A110BB8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4B2E-5E68-4526-B7EA-A1039789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1264-AA21-442B-A188-D22FAE6D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5541-A958-4BA7-B25B-2F5B9413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6CDB-EC13-46A3-ADEE-69C6B423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95EB-A744-4837-94FF-756B520A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8475-140D-4CAC-9482-D46FB25F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79CA-E18B-439A-8CDC-D8EB95A6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4F2-D7F7-42DA-9D5B-9878749B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A0CE-03D0-47DC-9211-446A6E62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7106-CF2C-4CE1-A044-B3DE9519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3FEDF-9DEC-45B4-B71E-F137C435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CC2C-D3A8-45DF-802C-49606582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5C0E-E931-47E7-8B16-9483BCB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C93A-C0E0-4969-BF9B-0ADEDF23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F27BB-86DF-4EA8-B2F5-14DC2BB8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3223-5B92-4F4B-9E8B-E843EE06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D6DB-28FD-47D7-9989-E2B73394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2F96A-3F52-48FD-8A09-9CF4DA0D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779-BDD6-435C-9D22-257021B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038D-C44D-44C5-8E13-4296FB2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465E-AF4F-4882-8CDD-D724942A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E3933-469D-44B8-BEC0-767BF9F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87EC9-44CC-4A62-9AEA-EA59A64D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67C94-5B2A-4887-8886-6907920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C051-7FA0-4E3A-AA1B-E44A9AB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37EA1-465E-4A5E-9EC5-C6CFC192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7128-5F8A-4030-B1B9-0068F812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498F5-3DF6-4817-BB31-9CEC27A2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2FE-EDBA-4C19-B3CE-645D1FA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F5FE-BF46-4DB2-8DE8-048C7C53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D2B-8976-4179-B1AA-957BB71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DF3-41BF-440C-8BC4-E4F5FFCB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338-C7A0-432E-8C58-477039E0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49E-A307-4FF0-B05F-8E709FB49C5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2FC2-1BF2-4455-9229-F30CBF0EF7D7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159-CB5B-477B-901A-E7D855B7E346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F37-182A-41A1-9EDB-A05FFC2467A9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oncabling.com.au/services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0 PC’s &amp; ‘green’ printer to minimize CO2 emiss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is is a SOHO and the Equipment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0 PC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Green Prin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erv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wit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ireless enabled Rou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mag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Cloud"/>
          <p:cNvSpPr/>
          <p:nvPr/>
        </p:nvSpPr>
        <p:spPr>
          <a:xfrm>
            <a:off x="0" y="1125360"/>
            <a:ext cx="1800360" cy="1204920"/>
          </a:xfrm>
          <a:custGeom>
            <a:avLst/>
            <a:gdLst>
              <a:gd name="textAreaLeft" fmla="*/ 248040 w 1800360"/>
              <a:gd name="textAreaRight" fmla="*/ 1424160 w 1800360"/>
              <a:gd name="textAreaTop" fmla="*/ 181800 h 1204920"/>
              <a:gd name="textAreaBottom" fmla="*/ 967320 h 12049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Users\Administrator\AppData\Local\Microsoft\Windows\Temporary Internet Files\Content.IE5\1JQQ7I3X\MC900432567[1].png"/>
          <p:cNvPicPr/>
          <p:nvPr/>
        </p:nvPicPr>
        <p:blipFill>
          <a:blip r:embed="rId1"/>
          <a:stretch/>
        </p:blipFill>
        <p:spPr>
          <a:xfrm>
            <a:off x="5724360" y="836640"/>
            <a:ext cx="1584360" cy="113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Administrator\AppData\Local\Microsoft\Windows\Temporary Internet Files\Content.IE5\U6FDESM4\MC900431576[1].png"/>
          <p:cNvPicPr/>
          <p:nvPr/>
        </p:nvPicPr>
        <p:blipFill>
          <a:blip r:embed="rId2"/>
          <a:stretch/>
        </p:blipFill>
        <p:spPr>
          <a:xfrm>
            <a:off x="7451640" y="5084640"/>
            <a:ext cx="1528920" cy="153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Users\Administrator\AppData\Local\Microsoft\Windows\Temporary Internet Files\Content.IE5\U6FDESM4\MC900431576[1].png"/>
          <p:cNvPicPr/>
          <p:nvPr/>
        </p:nvPicPr>
        <p:blipFill>
          <a:blip r:embed="rId3"/>
          <a:stretch/>
        </p:blipFill>
        <p:spPr>
          <a:xfrm>
            <a:off x="5292720" y="5013360"/>
            <a:ext cx="1527120" cy="153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:\Users\Administrator\AppData\Local\Microsoft\Windows\Temporary Internet Files\Content.IE5\U6FDESM4\MC900431576[1].png"/>
          <p:cNvPicPr/>
          <p:nvPr/>
        </p:nvPicPr>
        <p:blipFill>
          <a:blip r:embed="rId4"/>
          <a:stretch/>
        </p:blipFill>
        <p:spPr>
          <a:xfrm>
            <a:off x="3203640" y="4941720"/>
            <a:ext cx="1528560" cy="1538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Users\Administrator\AppData\Local\Microsoft\Windows\Temporary Internet Files\Content.IE5\KPFVNEAZ\MC900282474[1].wmf"/>
          <p:cNvPicPr/>
          <p:nvPr/>
        </p:nvPicPr>
        <p:blipFill>
          <a:blip r:embed="rId5"/>
          <a:stretch/>
        </p:blipFill>
        <p:spPr>
          <a:xfrm>
            <a:off x="611280" y="4581360"/>
            <a:ext cx="1827000" cy="1522440"/>
          </a:xfrm>
          <a:prstGeom prst="rect">
            <a:avLst/>
          </a:prstGeom>
          <a:ln w="0">
            <a:noFill/>
          </a:ln>
        </p:spPr>
      </p:pic>
      <p:cxnSp>
        <p:nvCxnSpPr>
          <p:cNvPr id="214" name="Straight Arrow Connector 13"/>
          <p:cNvCxnSpPr/>
          <p:nvPr/>
        </p:nvCxnSpPr>
        <p:spPr>
          <a:xfrm>
            <a:off x="1907640" y="1557000"/>
            <a:ext cx="403308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pic>
        <p:nvPicPr>
          <p:cNvPr id="215" name="Picture 9" descr="C:\Users\Administrator\AppData\Local\Microsoft\Windows\Temporary Internet Files\Content.IE5\MKL3RYBI\MC900434845[1].png"/>
          <p:cNvPicPr/>
          <p:nvPr/>
        </p:nvPicPr>
        <p:blipFill>
          <a:blip r:embed="rId6"/>
          <a:stretch/>
        </p:blipFill>
        <p:spPr>
          <a:xfrm>
            <a:off x="3780000" y="2565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:\Users\Administrator\AppData\Local\Microsoft\Windows\Temporary Internet Files\Content.IE5\MKL3RYBI\MC900434845[1].png"/>
          <p:cNvPicPr/>
          <p:nvPr/>
        </p:nvPicPr>
        <p:blipFill>
          <a:blip r:embed="rId7"/>
          <a:stretch/>
        </p:blipFill>
        <p:spPr>
          <a:xfrm>
            <a:off x="6300720" y="2421000"/>
            <a:ext cx="1714680" cy="1714320"/>
          </a:xfrm>
          <a:prstGeom prst="rect">
            <a:avLst/>
          </a:prstGeom>
          <a:ln w="0">
            <a:noFill/>
          </a:ln>
        </p:spPr>
      </p:pic>
      <p:cxnSp>
        <p:nvCxnSpPr>
          <p:cNvPr id="217" name="Straight Arrow Connector 17"/>
          <p:cNvCxnSpPr/>
          <p:nvPr/>
        </p:nvCxnSpPr>
        <p:spPr>
          <a:xfrm>
            <a:off x="5076360" y="3284280"/>
            <a:ext cx="1367640" cy="1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8" name="Straight Arrow Connector 19"/>
          <p:cNvCxnSpPr/>
          <p:nvPr/>
        </p:nvCxnSpPr>
        <p:spPr>
          <a:xfrm flipH="1" flipV="1">
            <a:off x="6659280" y="1628280"/>
            <a:ext cx="434160" cy="1153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19" name="Straight Arrow Connector 21"/>
          <p:cNvCxnSpPr/>
          <p:nvPr/>
        </p:nvCxnSpPr>
        <p:spPr>
          <a:xfrm flipH="1">
            <a:off x="2267640" y="3860640"/>
            <a:ext cx="1799640" cy="12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0" name="Straight Arrow Connector 23"/>
          <p:cNvCxnSpPr/>
          <p:nvPr/>
        </p:nvCxnSpPr>
        <p:spPr>
          <a:xfrm flipH="1">
            <a:off x="4426920" y="4005360"/>
            <a:ext cx="73800" cy="1224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1" name="Straight Arrow Connector 25"/>
          <p:cNvCxnSpPr/>
          <p:nvPr/>
        </p:nvCxnSpPr>
        <p:spPr>
          <a:xfrm>
            <a:off x="4787640" y="3933720"/>
            <a:ext cx="1369080" cy="1440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22" name="Straight Arrow Connector 27"/>
          <p:cNvCxnSpPr/>
          <p:nvPr/>
        </p:nvCxnSpPr>
        <p:spPr>
          <a:xfrm>
            <a:off x="5003280" y="3789360"/>
            <a:ext cx="3025080" cy="1728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verview and C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176480"/>
          <a:ext cx="8229600" cy="486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Site/s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ww.openoff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P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99.01 x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http://h20386.www2.hp.com/AustraliaStore/images/AUOLS_R2/products.html#/u=0,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 Pri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0 initial cost of setup and pay per print de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ww.konicaminolta.com.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lindy.com.au/networking_switches.ht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dell.com/au/business/p/poweredge-t320/pd?oc=u421302au&amp;model_id=poweredge-t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u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ttp://www.jbhifionline.com.au/computers-laptops/computer-accessories/d-link-dir632-wireless-8-port-router/6499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e2d7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http://www.visioncabling.com.au/services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 286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 need for expensive licences if we use Linu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andards are the same across the boa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asier to maint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st of ownership is cheaper in the long ru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ay per print reduces carbon footpri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isadvanta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ingle point of fail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t all equipment need to be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st of green printing is higher at fir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Not ideal for a fast growing compa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2 Emiss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935000"/>
          <a:ext cx="8229600" cy="2243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O2 E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6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 P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.2023 x 10 = 2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ecommend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lways use green certified hardw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ducate all the employees to be energy sm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volve all suppliers to comply with your emission targe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rive to attain green IT industrial certific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e involved in local sustainability activ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4:55:43Z</dcterms:created>
  <dc:creator>Administrator</dc:creator>
  <dc:description/>
  <dc:language>en-US</dc:language>
  <cp:lastModifiedBy>Administrator</cp:lastModifiedBy>
  <dcterms:modified xsi:type="dcterms:W3CDTF">2012-10-07T06:12:09Z</dcterms:modified>
  <cp:revision>9</cp:revision>
  <dc:subject/>
  <dc:title>Recommended solution for a small business.</dc:title>
</cp:coreProperties>
</file>